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laser.wav" ContentType="audio/x-wav"/>
  <Override PartName="/ppt/media/image8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chimes.wav" ContentType="audio/x-wav"/>
  <Override PartName="/ppt/media/image6.jpeg" ContentType="image/jpeg"/>
  <Override PartName="/ppt/media/image16.gif" ContentType="image/gif"/>
  <Override PartName="/ppt/media/image14.jpeg" ContentType="image/jpeg"/>
  <Override PartName="/ppt/media/image2.png" ContentType="image/png"/>
  <Override PartName="/ppt/media/image15.gif" ContentType="image/gif"/>
  <Override PartName="/ppt/media/image13.jpeg" ContentType="image/jpeg"/>
  <Override PartName="/ppt/media/camera.wav" ContentType="audio/x-wav"/>
  <Override PartName="/ppt/media/image12.jpeg" ContentType="image/jpeg"/>
  <Override PartName="/ppt/media/cashreg.wav" ContentType="audio/x-wav"/>
  <Override PartName="/ppt/media/projctor.wav" ContentType="audio/x-wav"/>
  <Override PartName="/ppt/media/image9.jpeg" ContentType="image/jpeg"/>
  <Override PartName="/ppt/media/image11.jpeg" ContentType="image/jpeg"/>
  <Override PartName="/ppt/media/image3.png" ContentType="image/png"/>
  <Override PartName="/ppt/media/image4.gif" ContentType="image/gi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33C-E6B4-424F-800F-F5B18C88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7E1-1414-4692-B725-B222E326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263-EDE0-493E-8598-F1271F7B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68F-A487-4B48-804C-AC3ED485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85D7-901B-428C-B2F9-541AF531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E0A1-3D9E-4D1D-89B5-F192AF9F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0458-6046-4B5A-8CF0-D1EE9A6E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5AE9-3F20-4C63-9BEB-665DF962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40C3-12E1-47AC-89DB-9B0AC0EF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B59A-1CC7-4B22-A7B0-7AAA8E4C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2CDD-C866-4E86-B053-24C8EE5F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255-ED30-413B-905C-621F1E3D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24D6-0BFB-4374-90D2-705678A3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C9FA-AD79-49B7-8E93-6A4459E5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F2BD-E5A7-490B-AA83-C9345D48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D747-9115-4B7C-8F27-9E1025DD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1971-72C0-4F4B-83AD-F053AA57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C24-2507-4957-BDE0-B219AA9D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961-CA91-4AA0-86A3-E75F88AF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792-A401-4D28-96CE-86EABE31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08F-C891-47FA-B81D-34856A46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31E-4552-470D-9938-7D5FD8EF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4F2-8882-4CA7-AE16-E56A203F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006-BD29-435E-BA50-21B4A738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E122-E8B8-4C68-B423-5F863E427F1D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D70D-5E27-4E69-90C1-33775020C4E2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00362315734150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400" y="533520"/>
            <a:ext cx="7467480" cy="1981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Unit  5   Adverti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2895480"/>
            <a:ext cx="4572000" cy="100836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Lesson   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78960" y="1219320"/>
            <a:ext cx="59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makes a good advertis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30320" y="1828800"/>
            <a:ext cx="32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ake=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条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4240" y="2286000"/>
            <a:ext cx="8107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vid will make a good football play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d tea makes a good drink in summ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520" y="3581280"/>
            <a:ext cx="900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n translated, it meant“x puts living thing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y hair.(=When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t wa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transl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9960" y="5173560"/>
            <a:ext cx="7630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y don’t you make an answer when spoken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 won’t go to the party unless inv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33520"/>
            <a:ext cx="91440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start with=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g  Today’s class started with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attract / draw one’s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124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fe into dry hair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11480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 puts living things into dry hair ---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干发生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0"/>
            <a:ext cx="8534160" cy="9907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4  The Past Participle as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定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040" y="853920"/>
            <a:ext cx="6046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Complete these sentences in your own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2880" y="1158840"/>
            <a:ext cx="75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Example: We lived in </a:t>
            </a:r>
            <a:r>
              <a:rPr b="1" i="1" lang="en-US" sz="2600" spc="-1" strike="noStrike">
                <a:solidFill>
                  <a:srgbClr val="ff0066"/>
                </a:solidFill>
                <a:latin typeface="Times New Roman"/>
              </a:rPr>
              <a:t>the house built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 by my broth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7840" y="1595520"/>
            <a:ext cx="82119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1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telegram sent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by my sist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2.Her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companion, blamed for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, had not be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driving carefu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3. You can take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new freeway ope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Nine of ten housewives interview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about the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ree guns, stol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from _______________, were f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in the hou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6.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ny medicine taken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without the advice of a doctor ca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0b9d"/>
                </a:solidFill>
                <a:latin typeface="Times New Roman"/>
              </a:rPr>
              <a:t>7. We spent two hours discussing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ads prepared b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8. He gave her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 beautiful gift designed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by 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8880" y="1600200"/>
            <a:ext cx="141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s urg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360" y="1981080"/>
            <a:ext cx="187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acci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880" y="2743200"/>
            <a:ext cx="1678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st mon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5480" y="3505320"/>
            <a:ext cx="226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re satisfi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55040" y="3930480"/>
            <a:ext cx="264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olice s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514980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 dangero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2160" y="5943600"/>
            <a:ext cx="148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fi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4880" y="6292800"/>
            <a:ext cx="120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imsel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781680" y="5410080"/>
            <a:ext cx="2362320" cy="1447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057400"/>
            <a:ext cx="891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treets 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rowd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hopp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upermarket                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very well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top of the mountain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lin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tree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se bu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factory visit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cove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ith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problems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agre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 exciting programme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re injur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y few people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as fix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s article         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settled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80880"/>
            <a:ext cx="9144000" cy="1067040"/>
          </a:xfrm>
          <a:prstGeom prst="rect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1   The Past Participle as Predic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Script MT Bold"/>
              </a:rPr>
              <a:t>（过去分词作表语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362320"/>
            <a:ext cx="220968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2286000"/>
            <a:ext cx="13716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3352680"/>
            <a:ext cx="53316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114800"/>
            <a:ext cx="1981080" cy="1143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4495680"/>
            <a:ext cx="144792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819520" y="4952520"/>
            <a:ext cx="1600200" cy="381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09680" y="2819160"/>
            <a:ext cx="2286000" cy="297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840" y="1438200"/>
            <a:ext cx="52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ake the sentences from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62520" y="4495320"/>
            <a:ext cx="53316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loud"/>
          <p:cNvSpPr/>
          <p:nvPr/>
        </p:nvSpPr>
        <p:spPr>
          <a:xfrm>
            <a:off x="-228600" y="0"/>
            <a:ext cx="9601200" cy="1295280"/>
          </a:xfrm>
          <a:prstGeom prst="pie">
            <a:avLst/>
          </a:prstGeom>
          <a:solidFill>
            <a:srgbClr val="1be6eb"/>
          </a:soli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Practice  2    The Past Participle as Object Complement   (</a:t>
            </a:r>
            <a:r>
              <a:rPr b="1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过去分词作宾语补足语）</a:t>
            </a:r>
            <a:r>
              <a:rPr b="0" lang="zh-CN" sz="2800" spc="-1" strike="noStrike">
                <a:solidFill>
                  <a:srgbClr val="000000"/>
                </a:solidFill>
                <a:latin typeface="PMingLiU"/>
                <a:ea typeface="PMingLiU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228600" y="1371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e tried the idea out.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6765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47960" y="1778040"/>
            <a:ext cx="9643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have printed 6,000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We are going to change the text of the adverti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We shall fetch your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lugg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They have reviewed the whole program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He is going to film a new advertis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9360" y="2158920"/>
            <a:ext cx="69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6,000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rint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380880" y="3048120"/>
            <a:ext cx="948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e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text of the advertisemen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hang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962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all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your luggage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etch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from the air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560" y="4800600"/>
            <a:ext cx="75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whole programm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view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2720" y="60958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going to hav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 new advertisement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ilm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137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We had the idea tried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93560" y="628560"/>
            <a:ext cx="8802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We must take some photographs of the micro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rs Baker does her hair every Friday after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putting up new shel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722600"/>
            <a:ext cx="96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ust hav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me photograph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f the microcomputer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taken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237200"/>
            <a:ext cx="83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Mrs Bake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has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her hair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done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every Friday after work.</a:t>
            </a:r>
            <a:r>
              <a:rPr b="1" i="1" lang="zh-CN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6095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librari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s having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new shelve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ut u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 flipV="1">
            <a:off x="704880" y="0"/>
            <a:ext cx="678168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ractice  3  The Past Participle as Adverbial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过去分词作状语）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58840"/>
            <a:ext cx="9044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ample:We were disturbed by the noise and had to finish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eting earl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360" y="2209680"/>
            <a:ext cx="762120" cy="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0960" y="1955880"/>
            <a:ext cx="827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isturb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by the noise, we had to finish the meeting ear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405720" y="2438280"/>
            <a:ext cx="99478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he was devoted to her mother and looked after her for m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She became tense when he was questioned about the mu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She was admired for her photography and was persuaded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oin the 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7560" y="3168720"/>
            <a:ext cx="921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to her mother, she had to look after her for many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1680" y="4191120"/>
            <a:ext cx="695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Question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about the murder, she became ten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715000"/>
            <a:ext cx="911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Admired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for her photography, she was persuaded to join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ompa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280" y="83340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We were excited by the sales figures and decided to go out and celeb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I was shocked at the waste of money and decid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ve the comp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He was persuaded by his friends to give up smoking and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873080"/>
            <a:ext cx="81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the sales figures, we decided to go out and celebr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9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hocke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y the waste of money, I decided to leave the compan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0520" y="5759280"/>
            <a:ext cx="843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ersuad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by his friends to give up smoking, he threw his remaining cigarettes a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838080"/>
            <a:ext cx="6172200" cy="1447920"/>
          </a:xfrm>
          <a:prstGeom prst="flowChartTerminator">
            <a:avLst/>
          </a:prstGeom>
          <a:solidFill>
            <a:srgbClr val="1be6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Script MT Bold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8480" y="2971800"/>
            <a:ext cx="651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Finish the workbook exerci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.Revise the whole les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343400" y="4876920"/>
            <a:ext cx="3657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47920" y="27115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88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华文行楷"/>
                <a:ea typeface="华文行楷"/>
              </a:rPr>
              <a:t>Thank you very much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971640" cy="892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133720" y="914400"/>
            <a:ext cx="971280" cy="892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181480" y="5943600"/>
            <a:ext cx="960480" cy="560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6400800" y="5334120"/>
            <a:ext cx="960480" cy="560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848720" y="5867280"/>
            <a:ext cx="96048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4724280"/>
            <a:ext cx="3810240" cy="1981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049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0"/>
            <a:ext cx="79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038480"/>
            <a:ext cx="792144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makes a good advertis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206369_20038273162826937" descr=""/>
          <p:cNvPicPr/>
          <p:nvPr/>
        </p:nvPicPr>
        <p:blipFill>
          <a:blip r:embed="rId3"/>
          <a:stretch/>
        </p:blipFill>
        <p:spPr>
          <a:xfrm>
            <a:off x="0" y="1522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98" name="20041285428431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99036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019920" y="2590920"/>
            <a:ext cx="11458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?</a:t>
            </a:r>
            <a:endParaRPr b="1" lang="en-US" sz="96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3600" y="5384880"/>
            <a:ext cx="3200400" cy="1473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33720" y="60948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288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1.People read advertisements for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 ) 2.Advertisements often start with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 order to get the correc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3. Humour is very important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vertis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  4. It is possible for the reader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member the advertisement but no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 the produ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6720" y="1752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362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35268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3434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380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06369_20038273162826937" descr=""/>
          <p:cNvPicPr/>
          <p:nvPr/>
        </p:nvPicPr>
        <p:blipFill>
          <a:blip r:embed="rId2"/>
          <a:stretch/>
        </p:blipFill>
        <p:spPr>
          <a:xfrm>
            <a:off x="0" y="38088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109" name="20041285428431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990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1523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33520"/>
            <a:ext cx="5257800" cy="144756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General id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362320"/>
            <a:ext cx="8991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aragraph  2&amp;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4952880"/>
            <a:ext cx="4876920" cy="1905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47920" y="3505320"/>
            <a:ext cx="7696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danger in advert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----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bad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translation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066680" y="456840"/>
            <a:ext cx="6782040" cy="1295280"/>
          </a:xfrm>
          <a:prstGeom prst="ellipse">
            <a:avLst/>
          </a:prstGeom>
          <a:solidFill>
            <a:srgbClr val="1be6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05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1.Checking the translation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en you are selling your product in a fo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ar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 )2.The two sentences “X puts life into y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ry hair.” and “X puts living things into d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air.” have the same mea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    )3. A British car company must chang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ame of the car in German mark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6360" y="1905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4800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6720" y="33526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-53352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763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2. Reading 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29628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ccording to the text, most people read advertisements for: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nowledge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fun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killing time          D. both information and fun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 Why do most advertisements begin with a question?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. Because nobody knows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. Because a question can make an advertisement funny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. Because readers will be interested in finding out the answer.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. Because a question will win more customers for a company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1752480"/>
            <a:ext cx="5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0880"/>
            <a:ext cx="914400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is very important in an advertisement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question.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Information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Humor.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A sto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What is one of the dangers of a series of advertisements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A. Readers will be tired of reading too many text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. Readers will lose patienc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C. Readers will forget the name of the product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D. Readers will forget the advertisemen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3800" y="137160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7320" y="4754520"/>
            <a:ext cx="9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228600"/>
            <a:ext cx="8839080" cy="81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5. What may turn a good advertisement into a bad on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A ques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A stor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Bad translatio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The expensive price of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6 .What would happen if the advertisement has no effect on sales after it is tried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searchers interview possible custom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The reasons for the failure must be found out.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 advertisement is designed again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All of the above would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690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019920"/>
            <a:ext cx="533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52578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133720" y="2286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Questions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299160" y="1219320"/>
            <a:ext cx="70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do people read advertis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9720" y="1752480"/>
            <a:ext cx="82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eople read advertisements partly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nd partly because they are interes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81280"/>
            <a:ext cx="817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ompany wanted to say “X puts life into d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hair”.But when translated it meant “X puts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ings into dry hai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4864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ritish name of the car meant “animal was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n Germ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666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at mistakes was made in the translation   of the ad for hair cr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76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istake was made in the car 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3:32:59Z</dcterms:created>
  <dc:creator>史文林</dc:creator>
  <dc:description/>
  <dc:language>en-US</dc:language>
  <cp:lastModifiedBy>w</cp:lastModifiedBy>
  <dcterms:modified xsi:type="dcterms:W3CDTF">2004-08-23T15:43:55Z</dcterms:modified>
  <cp:revision>84</cp:revision>
  <dc:subject/>
  <dc:title>PowerPoint 演示文稿</dc:title>
</cp:coreProperties>
</file>